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012-41B7-4728-AB91-754D0064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DE8C-B160-4868-88B5-BE3C8454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ACD2-DC5F-42D9-A864-FD1B1EE1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1B6E-2931-4507-8E1A-3F7676AE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8717-16C3-4031-AC3D-06E3EB36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0982-7713-4264-B16D-0FAD8C25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79AE-DDBC-4980-9261-48604DFC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55FC-4E24-4E39-B8AB-93AA400D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F830-D9E8-4486-A2F3-5391D6EA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5AB7-33E4-45FD-80D0-2A7E4F06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3215-A2CF-47EA-A9A1-7ED9D1F1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B3FB-7B80-4472-B687-23557F9A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A286-76D4-420B-B412-AA282E31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CC96-FA19-42CC-946C-13C586E2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D915-6CB9-4AC6-9E1F-8E630560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13E9-7F33-4BBC-A9AE-ABF15623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37C4-33BB-49E5-B614-7F74ABF4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4BCC-8A0B-4CEC-A02F-D6CF4F26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4F14-15D3-4F81-8A64-EA590E68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784F-4660-4BC6-9592-D85B798F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181B-2371-467D-81AB-2ECCFA14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8ED0-1A3C-41A9-90D1-72F20E58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7C80-48DF-4662-98B8-E6080F19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496C-15DC-4D31-92A1-7DC8BD80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A856-3DD8-45C3-A900-3665BDB45AF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BDAE-53EA-4C96-88D2-16B4E27CED8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Урок-игра по роману А.С.Пушкина «Дубровский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94280" y="1600200"/>
            <a:ext cx="3344760" cy="453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3520" y="2590920"/>
            <a:ext cx="434340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ставитель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харьина Елена Алексеевна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русского язы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 литературы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редней школы №1 с.Мамонто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амонтовского райо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лтайского кра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Восстановите последовательность эпизодов в романе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28600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оекуровы в гостях у  князя Верей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8098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сора Дубровского и Троеку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533412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хороны Андрея Гавриловича Дубров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26668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о Маши князю Верейск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5238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д у Троеку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42900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бровский останавливает карету князя Верей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457200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04812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ша прячет кольцо в дуп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571500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ж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свидание Маши и Дубров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19112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Троекурова воруют лес в роще Дубров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49528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ращение В.Дубровского в родную Кистенёв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8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1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3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2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2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3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3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76640" y="304920"/>
            <a:ext cx="48355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14600" y="270000"/>
            <a:ext cx="4019400" cy="58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324000"/>
            <a:ext cx="731520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16292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36600"/>
            <a:ext cx="678168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Второстепенные персонажи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4496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мердинер Дубров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таб-лекарь в лазарете  больных собак Троеку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постная няня, ухаживавшая за Дубровским и написавшая письмо Владимир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нец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арь Троеку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ар, единственный кистенёвский грамо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чер Дубров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ич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781200"/>
            <a:ext cx="34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о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1015920"/>
            <a:ext cx="43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5486400"/>
            <a:ext cx="150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2286000"/>
            <a:ext cx="180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4618080"/>
            <a:ext cx="119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4191120"/>
            <a:ext cx="150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3809880"/>
            <a:ext cx="317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22440" y="59436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1447920"/>
            <a:ext cx="66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3962520"/>
            <a:ext cx="34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и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3581280"/>
            <a:ext cx="34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ари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571500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рина Егоровна Бузырё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5257800"/>
            <a:ext cx="34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мо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4400640"/>
            <a:ext cx="34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рх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1204920"/>
            <a:ext cx="34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2057400"/>
            <a:ext cx="34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гаф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62428E-006 L 0.00243 -0.46612 E">
                                      <p:cBhvr>
                                        <p:cTn id="81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2.02312E-006 L -3.05556E-006 0.46335 E">
                                      <p:cBhvr>
                                        <p:cTn id="83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-4.41258E-006 L -0.0033 0.59043 E">
                                      <p:cBhvr>
                                        <p:cTn id="8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46901E-006 L -0.0033 -0.58533 E">
                                      <p:cBhvr>
                                        <p:cTn id="88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-4.73988E-006 L -0.00955 -0.53294 E">
                                      <p:cBhvr>
                                        <p:cTn id="9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8 2.02312E-006 L -0.00348 0.53295 E">
                                      <p:cBhvr>
                                        <p:cTn id="93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2948E-006 L 3.05556E-006 0.12208 E">
                                      <p:cBhvr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3.46821E-007 L -0.0033 -0.11931 E">
                                      <p:cBhvr>
                                        <p:cTn id="9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ctor</cp:lastModifiedBy>
  <dcterms:modified xsi:type="dcterms:W3CDTF">2008-01-11T14:48:07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